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2BC-FD70-4227-8F51-3E6FECF8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839-32A3-407A-8937-608E99A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B1B-8A06-4B79-A903-A45DFCC9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5BB-9A94-4D1F-8915-FB0DFF4C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E97C-92AF-4EAC-B134-7B4D88AF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B55-FB9A-4007-B4D9-D9D5C32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E3A4-3927-4E1C-9279-9873420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EBE9-FAB5-4FFF-B8A0-969DA564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623B-8D73-4718-834E-616F4A61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C8E-160D-42A7-B9A1-1CCF9F6E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CCFD-7960-4144-BF58-5FFD0C7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DF3-A2D3-4DA8-89E2-DD66DDE9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7D46-A5DE-47B5-BA86-F2525E2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4342-A855-41FB-BAF8-15DE8FD2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2FCD-8AED-4E3A-B775-8B32276E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822D-DFF5-4B58-8972-91702A6C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6CC-D9C6-4F2D-A072-57C924C4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21F-8490-4B27-BD74-240A10B1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F70-0462-4010-BD2D-B297635C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E12-E0E3-4152-96AA-97AAF1A1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AFD-11DD-4D05-8AE8-DA5D79C9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F81-6CC0-4F96-89AE-AA4FD439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61F-D823-4807-B296-8DB6FFAD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9FD-065E-4AC7-9BD4-8FBD673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7646-A21C-4C18-9596-CED93C456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1B00-742A-4EC6-895A-0925642E6E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eff1"/>
                </a:solidFill>
                <a:latin typeface="Arial Black"/>
              </a:rPr>
              <a:t>Sir, We Would See Jesus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365724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rter 9, Lesson 10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ges 40-46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k. 2:18-22; John 5:1-47; Mk. 2:23-28; Mk. 3:1-6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C222-652F-4804-B758-9D143A5226D6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Review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of Chris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ilean Ministr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ernau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ostles Called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 Multitude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racle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009-CD20-4D43-B563-C3944953F6CD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defends His disciples for their feasting instead of fasting – Mk. 2:18-22; Matt. 9:14-17; Luke 5:33-39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were critical of others – Mk. 2:1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ing is for sad occasions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the Savior-Messiah with them was a time to rejoice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hardened mentality could not properly expand for this great new age of the Messiah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E0A-5029-4B77-ABC9-2F472A339A45}" type="slidenum">
              <a:t>3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ttends a feast of the Jews and heals a lame man – John 5:1-47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led man is criticized for walking with his bed-pallet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condemn Jesus on two counts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eals on the Sabbat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makes Himself equal with Go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, the Father honored Jesus – 5:19,20,2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3BF-3DC9-47AE-BE9C-2F2CDACA59EC}" type="slidenum">
              <a:t>4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ttends a feast of the Jews and heals a lame man – John 5:1-47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has these tasks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 eternal life – 5:21,24,26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raise the dead – 5:25,28-29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judge all men – 5:22,27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imonies concerning Jesus – 5:30-47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John the Baptizer – 5:31-35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His own works or miracles – 5:36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Father – 5:30,37-38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Scriptures (our Old Testament) – 5:39-47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72D-C705-4A15-A103-C6428597AC03}" type="slidenum">
              <a:t>5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pluck grain on the Sabbath – Mk. 2:23-28; Matt. 12:1-8; Luke 6:1-5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considered this as “work” and violation of the la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respond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was not so condemned by the law or by the Pharisee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bbath was not made to add hardship to man, but to give man a needed break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ster of the Sabbath, being present, should know whether the disciples were doing wrong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5E5-18B9-49BE-8F01-80E1F665F69D}" type="slidenum">
              <a:t>6</a:t>
            </a:fld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eals a man with a withered hand on the Sabbath – Mk. 3:1-6; Matt. 12:9-14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6:6-11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racle is overlooked – Mk.3:1-5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hould have awed and amazed everyon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hould have shown that God approved of Jesu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lice is stirred within the Pharisee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plotted with people they normally disagreed wit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ice brings together strange bed-partner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89B-89CC-43E1-BA78-0CA02D79AF7A}" type="slidenum">
              <a:t>7</a:t>
            </a:fld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1:56:11Z</dcterms:created>
  <dc:creator>Terry W. Benton</dc:creator>
  <dc:description/>
  <dc:language>en-US</dc:language>
  <cp:lastModifiedBy>Frank D Vines</cp:lastModifiedBy>
  <dcterms:modified xsi:type="dcterms:W3CDTF">2006-05-07T13:33:39Z</dcterms:modified>
  <cp:revision>6</cp:revision>
  <dc:subject/>
  <dc:title>Sir, We Would See Jesus</dc:title>
</cp:coreProperties>
</file>